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50A-F911-43F4-93A2-C9D5B447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D3C-7EF0-4B96-8A51-2BAAC046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D03-8D99-468A-9779-F2A79436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ACB-7212-4878-BB21-3111F2A1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F0C6-D0D9-45C2-B905-78ADE163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7617-AEAE-4565-82F4-BC92671D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D3EE-B0B5-4FA4-93C4-779B86CE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E44F-568D-405B-B0CD-DA72C590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AE4B-28DE-489A-8EFE-768E86FA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2408-1F85-4371-81E4-20FEAD1B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5527-1F26-409E-BAA3-0437A90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AD8-3690-485A-8806-2742E264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CC8-E494-480A-9CEC-659D6B05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FE2F-C7F7-4CE0-8109-65DD3E8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3EC8-68CB-4C44-9DA9-86CCCE77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F019-6AE9-4D82-91DD-BD5D8A43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5DA0-9649-4961-B22F-F59F19D5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92D-F639-49A6-869F-24FC2FAF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E49-5E8E-43FC-A5D2-7A1F821D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2B4-B5A2-42CA-966D-AA476145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D4D-CB19-4657-AEEB-3DCCC364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8F4-A5A0-404F-93AC-1363257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AC1-2689-4E6F-A04E-CAEEEAF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A87-16D4-479B-8A5D-B353289F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3425-A06D-4EA8-8C93-ACD7D85FC7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4719-B4B1-4BDD-A192-E5D7DAC3BB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(Divided Kingdom – Part 1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6, Lesson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61-6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Kings 6:24 -8: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938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76720" y="3581280"/>
            <a:ext cx="114300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114440" y="2666880"/>
            <a:ext cx="106668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181480" y="1371600"/>
            <a:ext cx="121932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2286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amaria Besieged By Arameans &amp; Famine Sets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iege of Sam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ameans besiege Sama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light of the people – cannibalism -6:24-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ejudice of the king – blames Elisha and the Lord – 6:30-3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ophecy of Elisha – 7:1-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anic of the Arameans – 7:3-1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lunder by the people – 7:12-1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assing of the Officer – 7:17-2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miniscing About Elish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hazi and the woman of Shunem tell the king of Israel of Elisha’s d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relocated due to Elisha’s warning. 8:1-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returned after the famine to get her house and land back -8: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 is restored her belongings when Gehazi explains the situation to the 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3124080" y="3962520"/>
            <a:ext cx="99072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200400" y="3962160"/>
            <a:ext cx="76212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4572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man of Shunam Left and Retur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16:49:56Z</dcterms:created>
  <dc:creator>Terry W. Benton</dc:creator>
  <dc:description/>
  <dc:language>en-US</dc:language>
  <cp:lastModifiedBy>Frank D Vines</cp:lastModifiedBy>
  <dcterms:modified xsi:type="dcterms:W3CDTF">2005-08-24T17:26:26Z</dcterms:modified>
  <cp:revision>2</cp:revision>
  <dc:subject/>
  <dc:title>Till There Was No Remedy (Divided Kingdom – Part 1)</dc:title>
</cp:coreProperties>
</file>